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14.gif" ContentType="image/gif"/>
  <Override PartName="/ppt/media/image2.jpeg" ContentType="image/jpeg"/>
  <Override PartName="/ppt/media/image8.gif" ContentType="image/gif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394-39F5-4A85-BE48-CB66EA90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777-5BB2-4570-91A8-F3587791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C24-DD39-46EC-84BF-42CB941D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346-4323-4098-948F-7CD3AD39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595E-1390-443D-9114-3F8284B1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5762-9402-402E-9E57-402C5267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31F0-A63B-4873-95BF-ED967435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BA4C-E38E-4238-A7DE-49611916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5119-A8B9-4606-BC1F-31A249A5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481B-7DA4-4F40-95A9-7CDF1942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4AB4-FD8A-411A-9B28-1D44778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9E5-CA32-4C14-B49A-BDA43105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1E62-3210-4524-9DD9-64B048C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5DA7-98DA-475A-97C2-659402FE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CF5D-569E-44FB-8B2B-9359E7B6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DC79-5F08-401A-86B9-4F15C249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563E-13B9-47F0-9F1A-E68C84C9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A881-9D17-4D90-B6FC-C3D89AF4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4EAC2-6DA7-4EAA-B487-AAAB6CF1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7CDB-568B-453B-91EE-D4E9067F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D9F2-B0BA-4E4B-9117-BC3BE10D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D4FC-4CB7-441C-BE0E-70F5DFAA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0D6-11F2-48F4-A918-C8214668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B5F2-2778-4E56-A1A4-F30BF850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1519-4B86-430F-8C3C-6ECA3EBE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423F-2A66-4452-918E-B28C20C6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A379-28EF-4966-BD07-76979B5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50EF-8005-483E-8438-6CB925B2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7D8F-C5AF-4C5A-98EE-C4466D6A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81F8-80C6-49E5-B4CA-4311D1C0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B8E7-4585-4959-BC06-BFCE5C0C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16EB-4AF1-41D9-8B3B-B8671320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6747-6D13-428F-A1D2-48D49E42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F05-8F6D-492F-A53B-84A03900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BFD0-388C-4384-BC93-CBA4351B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DBB2D-4000-4700-B3A9-50EE715A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12B7-55B2-4B01-84ED-66BB691B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9315-377A-445D-9B6A-CF67CB5D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35D6-9793-405C-AE9E-FB4121A7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E2B5F-C49F-454A-B30B-C585D43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3CB6F-69B0-49C3-866E-4E2046C8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3448-913F-47BA-BAE5-7DBC4C2B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395CC-F704-4474-91BA-67C8576A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21AC2-946E-4429-A6CA-AA0CDAE7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029-931A-4F31-B019-ED3272BD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BA9C9-C342-4F36-8EC3-F91DD223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83F27-A84D-40EE-8F4D-7D74AD48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36E8-7193-4255-925D-B909156F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3C701-3200-4336-A125-3D80E4FA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746DE-27FA-479E-A226-E1DDA8B9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9650-8F0A-4FDC-83E2-7C89F9CC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D18F-24D1-486F-B4D9-616C53A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258AF-B220-440B-A2A6-79E537F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42AC7-A29F-4E0A-8B92-34F3E53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E88A-D6E3-4AF1-B48E-9B141C66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37B-8BAF-4890-924E-08967AEB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3F012-799D-4487-859A-2B9DCE7F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5176-D3D2-4D22-8597-B1F1BE86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46941-727A-4438-94D9-F07F5AA0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FA131-1067-4F4D-B1FF-0BCCF14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1126-D5E6-4326-A0C5-770D3FD0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F6B49-241C-46EA-B1D2-4EFA83C6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4E061-862A-4597-B099-B135700D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62CAD-64F6-46E6-ADB7-CBA7C047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5964-828C-4FF8-A388-47CAF07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432A0-0BB2-443C-9F31-8BDBFB78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400-7D77-44AC-8E65-93561FC6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EFFB3-D8B3-4721-A895-89088566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2FD6-D0DC-4058-B2A4-671131A1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558C-C187-4024-B6BB-C3AAAEBB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B4710-66D6-4B76-A4A1-6C38308F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4D217-8C0B-4860-A130-8C7C5E90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77F86-65FF-41DE-BF0C-F6D73522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3109F-D900-4A88-8907-A7057E4A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97B21-5896-4B0D-8296-C53DD4FB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BFCD5-F657-4F1B-AD94-E8B010A5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6698B-D85F-4E49-8626-1A8ABD5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26C-73D2-4763-8735-0651F6AE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E7475-78AF-4123-887C-34DA307E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CAE76-4881-4F9E-851C-A10FC04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4DFB8-F78E-4C2D-9540-342C34E5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9DAB8-1EC8-4032-88B1-33E351B7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BAF00-224D-4545-9683-AC40BAE6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0FF-827E-4C3C-A48B-BD293689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1726-17CF-44E1-BFEB-59AF7A403AB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B6CA-73AC-439A-8126-E8C452FDDDA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F66-B70C-4B32-9F05-BCA476480B5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9ED6-EE5A-4F23-8B51-DF423C28D35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AFB8-6F2F-4782-8BD5-C3EBD2EB19E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69FA-2124-4BFF-89DA-050502BA2EC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CE11-1968-4275-8904-176D90F1706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03360" y="324000"/>
            <a:ext cx="8248680" cy="2058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vist Approach to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0" descr="small_bulb"/>
          <p:cNvPicPr/>
          <p:nvPr/>
        </p:nvPicPr>
        <p:blipFill>
          <a:blip r:embed="rId2"/>
          <a:stretch/>
        </p:blipFill>
        <p:spPr>
          <a:xfrm>
            <a:off x="3429000" y="2438280"/>
            <a:ext cx="223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4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llow students to use their new knowledge and continue to explore its im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knowledge to other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consider the effects of thei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to their own wor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relate to other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MCj03980690000[1]"/>
          <p:cNvPicPr/>
          <p:nvPr/>
        </p:nvPicPr>
        <p:blipFill>
          <a:blip r:embed="rId1"/>
          <a:stretch/>
        </p:blipFill>
        <p:spPr>
          <a:xfrm>
            <a:off x="6934320" y="1905120"/>
            <a:ext cx="1806480" cy="152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MCj02958790000[1]"/>
          <p:cNvPicPr/>
          <p:nvPr/>
        </p:nvPicPr>
        <p:blipFill>
          <a:blip r:embed="rId2"/>
          <a:stretch/>
        </p:blipFill>
        <p:spPr>
          <a:xfrm>
            <a:off x="6858000" y="4114800"/>
            <a:ext cx="1879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given a set of scenarios, including different disorders of the digestive system, digestion of organic compounds, etc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pply their knowledge of the digestive system to these scenarios to figure out what is going 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324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5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oth students and teachers determine how much learning and understanding has taken pl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f-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 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ility to apply to other top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ance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MMj02866740000[1]"/>
          <p:cNvPicPr/>
          <p:nvPr/>
        </p:nvPicPr>
        <p:blipFill>
          <a:blip r:embed="rId1"/>
          <a:stretch/>
        </p:blipFill>
        <p:spPr>
          <a:xfrm>
            <a:off x="5943600" y="2895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MMj02831940000[1]"/>
          <p:cNvPicPr/>
          <p:nvPr/>
        </p:nvPicPr>
        <p:blipFill>
          <a:blip r:embed="rId2"/>
          <a:stretch/>
        </p:blipFill>
        <p:spPr>
          <a:xfrm>
            <a:off x="7238880" y="4876920"/>
            <a:ext cx="15526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responses to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2847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structivism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Constructivism is a philosophy about learning that proposes learners need to build their own understanding of new ideas.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Source: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http://iisme.5ecommunity.org/index.php?area_id=5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MPj0382991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9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5e’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alu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5e model was originally proposed by the BSCS (Biological Science Curriculum Study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content_cd"/>
          <p:cNvPicPr/>
          <p:nvPr/>
        </p:nvPicPr>
        <p:blipFill>
          <a:blip r:embed="rId1"/>
          <a:stretch/>
        </p:blipFill>
        <p:spPr>
          <a:xfrm>
            <a:off x="4648320" y="1752480"/>
            <a:ext cx="37335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1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peak student interest and get them personally involved in the les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prio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s curio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to ask the WHY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vates students to lea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MCj04042630000[1]"/>
          <p:cNvPicPr/>
          <p:nvPr/>
        </p:nvPicPr>
        <p:blipFill>
          <a:blip r:embed="rId1"/>
          <a:stretch/>
        </p:blipFill>
        <p:spPr>
          <a:xfrm>
            <a:off x="5748480" y="301464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Without a Stomach Vi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05200" cy="3095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4038480" y="2362320"/>
            <a:ext cx="4038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 a 4 ½ minute video about Jonas, a man who attempted to commit suicide by swallowing bleach. In doing so, Jonas lost many of the organs of his digestive system, including his stomach. Jonas undergoes a radical procedure, in which his intestine is connected to his esophag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are then asked to generate questions they have about Jonas’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2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get students involved in the topic; providing them with a chance to find the solution f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work toge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must make their own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generate questions and ideas while within the situation or probl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11" descr="MCPE03230_0000[1]"/>
          <p:cNvPicPr/>
          <p:nvPr/>
        </p:nvPicPr>
        <p:blipFill>
          <a:blip r:embed="rId1"/>
          <a:stretch/>
        </p:blipFill>
        <p:spPr>
          <a:xfrm>
            <a:off x="5943600" y="2819520"/>
            <a:ext cx="2840040" cy="139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MMj03957550000[1]"/>
          <p:cNvPicPr/>
          <p:nvPr/>
        </p:nvPicPr>
        <p:blipFill>
          <a:blip r:embed="rId2"/>
          <a:stretch/>
        </p:blipFill>
        <p:spPr>
          <a:xfrm>
            <a:off x="6248520" y="5181480"/>
            <a:ext cx="220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partnered up and work through a series of questions about the digestive system with the assistance of their textbook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e based on Jonas’ situ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choose 2 questions from the prior brainstorming to answer in addition to the questions the teacher handed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3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tudents are given a chance to take what they have learned so far and figure out what it m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re asked to explain their exper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ass discussion is he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questions are gener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definitions are expl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MCj03605160000[1]"/>
          <p:cNvPicPr/>
          <p:nvPr/>
        </p:nvPicPr>
        <p:blipFill>
          <a:blip r:embed="rId1"/>
          <a:stretch/>
        </p:blipFill>
        <p:spPr>
          <a:xfrm>
            <a:off x="6095880" y="1981080"/>
            <a:ext cx="2649600" cy="1632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3907920000[1]"/>
          <p:cNvPicPr/>
          <p:nvPr/>
        </p:nvPicPr>
        <p:blipFill>
          <a:blip r:embed="rId2"/>
          <a:stretch/>
        </p:blipFill>
        <p:spPr>
          <a:xfrm>
            <a:off x="6324480" y="4419720"/>
            <a:ext cx="22860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ass goes over their findings, with the teacher facilitating the discussion and correcting misconception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share the answers to the questions that they ch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have a diagram of the digestive system that they can use to fill in important points as they come up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as a supplementary power point to illustrate student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50:14Z</dcterms:created>
  <dc:creator>elpalme</dc:creator>
  <dc:description/>
  <dc:language>en-US</dc:language>
  <cp:lastModifiedBy>elpalme</cp:lastModifiedBy>
  <dcterms:modified xsi:type="dcterms:W3CDTF">2011-01-28T18:59:15Z</dcterms:modified>
  <cp:revision>5</cp:revision>
  <dc:subject/>
  <dc:title>The 5e Instructional Model</dc:title>
</cp:coreProperties>
</file>